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EA2D-79F8-4C74-B726-64828910CDF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2DB7-82D9-45C5-98C6-9CDAF2522F8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140B-0C07-4C98-9908-2437B4D3367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6991-7677-44C6-AC58-EE73A53E88E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DA4C-3C3C-4282-9CB4-9981CE145D8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EADA-2234-4B0A-94E2-A4C425D3A48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0D92-A710-477A-82DC-757F9E764D7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19B8-F6F8-43BA-A563-57D6CFAF19F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3DFC-ADE8-4CAB-89C6-EC434BE6290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5C88-2DE8-4711-BD20-5D067F6D81A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414E-905D-42FE-B998-3FE4D8ECFBA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BAA0-45D5-4E5F-BA19-55A46CD4DB5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3ED4-F419-4DAB-A176-8E05DC07BAE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8925-92B3-4448-B8EA-B86787CEE05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2961-D304-40C4-8BA9-96586C34B5D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F11D-9A8C-4A1B-86FC-D73BD61E95C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333B-0C2D-4722-923B-21DECB924B2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D0C9-7FA8-4E81-BED1-5AE77AE467E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8F09-D00C-4690-83C6-C34F1170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3263-802C-40A5-AC6B-5E05BC0C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54C6-5B4F-4555-B80A-1A3C3B23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E7A5-86C2-444F-9509-6CD75BA5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DB0A-1AE4-4E48-86CF-70AF583E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787F-A895-46C3-98A0-8EF978A5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06FE-EAAE-4BC0-B7F9-E2A331B5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5086-97DE-493E-9F59-22CDEF5A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61FA-5D14-4AD6-AC66-319CE6F6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88C3-E935-4498-B1AA-02534D3F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BE8A-A9B6-4033-9453-BD6ABF85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7FA2-AB3C-410A-86FC-AC822E03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7116-2D29-4F1F-9162-B0A05BE9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DE4B-ADAE-4FC1-B159-17691666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C645-67A7-49DF-9859-70C728D3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8620-C74B-4307-B159-0EC8424E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1EC7-41D9-4EB4-A823-564624B0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C6CE-A4E7-4680-AED3-DF257398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E419-6943-4DE4-A150-BE0924F7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F1F2-61FB-4BB2-9E22-2A805404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BBF5-EDC7-4813-8553-26B278EC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7FEE-7E4A-473A-A84B-B6A630B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175D-495B-444B-AACF-8E76016F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F14D-3759-43B6-8C9E-7FAA84E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7861-B82D-4F6E-B2A4-A0E38D76111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C1AD-62E5-4D5C-B192-4A9EDEE39F1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85768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sr-C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рургија дијафрагм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240" y="5013000"/>
            <a:ext cx="7232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Verdana"/>
              <a:ea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E4E7-3A9B-4C64-934C-9335F9E6BA9F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керлунд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ва подела</a:t>
            </a: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тус херн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19700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in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 glisse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клизајућа херн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диоезофагеални спој клизи на гор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рављен Хисов угао, релаксирана Губаровљева валву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лика учесталост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RD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а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 90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чење је конзервативн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 код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хируршк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езофагеалн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рљајућа херн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дија нормално стоји у трбух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 поред ње клизи на горе фундус или цео желуда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ма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чење је хируршко због претећег укљештења и хроничног волвулуса желу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шани тип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зи кардиј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а поред ње и део желуца у грудни кош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чење је хируршк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7A10-7D96-419C-A23B-AAB637DF0D17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oracogaster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ин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S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iding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ернија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раезофагеална херниј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376F-72C4-4B4F-BACB-E26E9CA75DDA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6" descr="rad300F6.jpg"/>
          <p:cNvPicPr/>
          <p:nvPr/>
        </p:nvPicPr>
        <p:blipFill>
          <a:blip r:embed="rId1"/>
          <a:stretch/>
        </p:blipFill>
        <p:spPr>
          <a:xfrm>
            <a:off x="0" y="1714680"/>
            <a:ext cx="2714760" cy="5143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rad967D9.jpg"/>
          <p:cNvPicPr/>
          <p:nvPr/>
        </p:nvPicPr>
        <p:blipFill>
          <a:blip r:embed="rId2"/>
          <a:stretch/>
        </p:blipFill>
        <p:spPr>
          <a:xfrm>
            <a:off x="5572080" y="1714680"/>
            <a:ext cx="3571920" cy="5143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rad031EB.jpg"/>
          <p:cNvPicPr/>
          <p:nvPr/>
        </p:nvPicPr>
        <p:blipFill>
          <a:blip r:embed="rId3"/>
          <a:stretch/>
        </p:blipFill>
        <p:spPr>
          <a:xfrm>
            <a:off x="2714760" y="1714680"/>
            <a:ext cx="2873160" cy="5143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99840" y="-360"/>
            <a:ext cx="264348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раезофагеалне херније са антеторакалном хернијацијом желуца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oracogaster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EDE9-F697-428D-B4DA-26B861C968FF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7" descr="rad29C25.jpg"/>
          <p:cNvPicPr/>
          <p:nvPr/>
        </p:nvPicPr>
        <p:blipFill>
          <a:blip r:embed="rId1"/>
          <a:stretch/>
        </p:blipFill>
        <p:spPr>
          <a:xfrm>
            <a:off x="0" y="3786120"/>
            <a:ext cx="2643120" cy="307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rad9702B.jpg"/>
          <p:cNvPicPr/>
          <p:nvPr/>
        </p:nvPicPr>
        <p:blipFill>
          <a:blip r:embed="rId2"/>
          <a:stretch/>
        </p:blipFill>
        <p:spPr>
          <a:xfrm>
            <a:off x="5072040" y="0"/>
            <a:ext cx="407196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rad4A247.jpg"/>
          <p:cNvPicPr/>
          <p:nvPr/>
        </p:nvPicPr>
        <p:blipFill>
          <a:blip r:embed="rId3"/>
          <a:stretch/>
        </p:blipFill>
        <p:spPr>
          <a:xfrm>
            <a:off x="0" y="0"/>
            <a:ext cx="2500200" cy="26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rad1832A.jpg"/>
          <p:cNvPicPr/>
          <p:nvPr/>
        </p:nvPicPr>
        <p:blipFill>
          <a:blip r:embed="rId4"/>
          <a:stretch/>
        </p:blipFill>
        <p:spPr>
          <a:xfrm>
            <a:off x="2643120" y="3786120"/>
            <a:ext cx="2428920" cy="3071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64000" y="189000"/>
            <a:ext cx="37800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ски прикази односа између: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imer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ове мембране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ардиоезофагеалног споја и делова желуца у хернијацијам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7DA9-670A-4EE7-AE98-E713901B57BD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7" descr="rad36D68.jpg"/>
          <p:cNvPicPr/>
          <p:nvPr/>
        </p:nvPicPr>
        <p:blipFill>
          <a:blip r:embed="rId1"/>
          <a:stretch/>
        </p:blipFill>
        <p:spPr>
          <a:xfrm>
            <a:off x="7072200" y="3357720"/>
            <a:ext cx="2071800" cy="3500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radDA9C8.jpg"/>
          <p:cNvPicPr/>
          <p:nvPr/>
        </p:nvPicPr>
        <p:blipFill>
          <a:blip r:embed="rId2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rad724E8.jpg"/>
          <p:cNvPicPr/>
          <p:nvPr/>
        </p:nvPicPr>
        <p:blipFill>
          <a:blip r:embed="rId3"/>
          <a:stretch/>
        </p:blipFill>
        <p:spPr>
          <a:xfrm>
            <a:off x="0" y="0"/>
            <a:ext cx="5292720" cy="335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radB9307.jpg"/>
          <p:cNvPicPr/>
          <p:nvPr/>
        </p:nvPicPr>
        <p:blipFill>
          <a:blip r:embed="rId4"/>
          <a:stretch/>
        </p:blipFill>
        <p:spPr>
          <a:xfrm>
            <a:off x="4643280" y="3357720"/>
            <a:ext cx="2413080" cy="350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57600" y="-360"/>
            <a:ext cx="278604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 и рентген: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“ 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iding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”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ерније са постоперативним резултатима</a:t>
            </a:r>
            <a:r>
              <a:rPr b="1" lang="sr-Latn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8FDB-97F2-4401-B1EF-6C8F43C4AAB6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7" descr="rad8E88C.jpg"/>
          <p:cNvPicPr/>
          <p:nvPr/>
        </p:nvPicPr>
        <p:blipFill>
          <a:blip r:embed="rId1"/>
          <a:stretch/>
        </p:blipFill>
        <p:spPr>
          <a:xfrm>
            <a:off x="4286160" y="3500280"/>
            <a:ext cx="2071800" cy="335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ad931D9.jpg"/>
          <p:cNvPicPr/>
          <p:nvPr/>
        </p:nvPicPr>
        <p:blipFill>
          <a:blip r:embed="rId2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radEB2E7.jpg"/>
          <p:cNvPicPr/>
          <p:nvPr/>
        </p:nvPicPr>
        <p:blipFill>
          <a:blip r:embed="rId3"/>
          <a:stretch/>
        </p:blipFill>
        <p:spPr>
          <a:xfrm>
            <a:off x="6335640" y="3486240"/>
            <a:ext cx="2808360" cy="337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rad5F32B.jpg"/>
          <p:cNvPicPr/>
          <p:nvPr/>
        </p:nvPicPr>
        <p:blipFill>
          <a:blip r:embed="rId4"/>
          <a:stretch/>
        </p:blipFill>
        <p:spPr>
          <a:xfrm>
            <a:off x="4286160" y="0"/>
            <a:ext cx="2071800" cy="350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иничка слика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тус херн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флукс езофагити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к везивања ципела –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ожајна регургитац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nt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в тријас: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ециститис и дивертикулоза кол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нични волвулус желу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фагија код стенозе једњ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варење код укљештења праћено болом по типу акутног волвулуса желу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тећа перфорација желуца у медијастинум код укљештења са боло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0EB4-A3BE-4882-80E1-B1F7A051E266}" type="slidenum">
              <a:rPr b="1" i="1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Л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чење хијатус херниј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зерватив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ациди, блокатори секреције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C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гијенско - дијететски режим (положајна дренажа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руршк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.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ll: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ав крура дијафрагме, гастропексија мале кривине за крура дијафраг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б.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ssen: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ндопликација у виду муфа око 6 см.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талног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дња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.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sey: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торакална фундопликација и гастропексија за дијафраг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.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tat Jacob: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нструкција Хисовог угла и фундопексија з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јафраг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4DFD-6BC4-4224-B51A-BFAF036AE3EA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</a:t>
            </a: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едња фундопликација по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D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rr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</a:t>
            </a:r>
            <a:br>
              <a:rPr sz="1800"/>
            </a:b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дина</a:t>
            </a: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дња фундопликација по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oupet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 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 кружна по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issen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oseti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ју</a:t>
            </a:r>
            <a:br>
              <a:rPr sz="1800"/>
            </a:b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</a:t>
            </a:r>
            <a:r>
              <a:rPr b="1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стропексије по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issen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1" lang="sr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у</a:t>
            </a:r>
            <a:br>
              <a:rPr sz="20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A0A1-7DAF-43EE-A5D6-3509B3C11D67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9" descr="rad54108.jpg"/>
          <p:cNvPicPr/>
          <p:nvPr/>
        </p:nvPicPr>
        <p:blipFill>
          <a:blip r:embed="rId1"/>
          <a:stretch/>
        </p:blipFill>
        <p:spPr>
          <a:xfrm>
            <a:off x="0" y="4071960"/>
            <a:ext cx="2928960" cy="2786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rad92DC5.jpg"/>
          <p:cNvPicPr/>
          <p:nvPr/>
        </p:nvPicPr>
        <p:blipFill>
          <a:blip r:embed="rId2"/>
          <a:stretch/>
        </p:blipFill>
        <p:spPr>
          <a:xfrm>
            <a:off x="0" y="114300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rad4CF6B.jpg"/>
          <p:cNvPicPr/>
          <p:nvPr/>
        </p:nvPicPr>
        <p:blipFill>
          <a:blip r:embed="rId3"/>
          <a:stretch/>
        </p:blipFill>
        <p:spPr>
          <a:xfrm>
            <a:off x="2928960" y="4071960"/>
            <a:ext cx="2666880" cy="2786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rad6ABF6.jpg"/>
          <p:cNvPicPr/>
          <p:nvPr/>
        </p:nvPicPr>
        <p:blipFill>
          <a:blip r:embed="rId4"/>
          <a:stretch/>
        </p:blipFill>
        <p:spPr>
          <a:xfrm>
            <a:off x="3071880" y="1143000"/>
            <a:ext cx="2571840" cy="2949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rad43C97.jpg"/>
          <p:cNvPicPr/>
          <p:nvPr/>
        </p:nvPicPr>
        <p:blipFill>
          <a:blip r:embed="rId5"/>
          <a:stretch/>
        </p:blipFill>
        <p:spPr>
          <a:xfrm>
            <a:off x="5572080" y="40719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rad2853D.jpg"/>
          <p:cNvPicPr/>
          <p:nvPr/>
        </p:nvPicPr>
        <p:blipFill>
          <a:blip r:embed="rId6"/>
          <a:stretch/>
        </p:blipFill>
        <p:spPr>
          <a:xfrm>
            <a:off x="5643720" y="1143000"/>
            <a:ext cx="3500280" cy="294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нгениталне малформац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ликације дијафраг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лимична или потпу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цесорна дијафраг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ничка слика компресије плућ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рапија хируршк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тност зависи од нивоа поремећаја плућне функц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аксације дијафраг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око положена атрофична дијафрагм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ентрација дијафрагм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ализ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n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renicu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 порођајне трау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одраслих чешћа лев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код деце дес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чење је хируршка корекц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ренопластик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52AA-CCDC-49BF-B75F-EF46429D215C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00240" y="-360"/>
            <a:ext cx="61437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лаксација дијафрагм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гностика и оперативни третман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893-FC12-4D44-B28D-22C9422A6023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10" descr="radA0A44.jpg"/>
          <p:cNvPicPr/>
          <p:nvPr/>
        </p:nvPicPr>
        <p:blipFill>
          <a:blip r:embed="rId1"/>
          <a:stretch/>
        </p:blipFill>
        <p:spPr>
          <a:xfrm>
            <a:off x="5286240" y="1643040"/>
            <a:ext cx="3857760" cy="3154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rad66989.jpg"/>
          <p:cNvPicPr/>
          <p:nvPr/>
        </p:nvPicPr>
        <p:blipFill>
          <a:blip r:embed="rId2"/>
          <a:stretch/>
        </p:blipFill>
        <p:spPr>
          <a:xfrm>
            <a:off x="6572160" y="478620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rad2D6D6.jpg"/>
          <p:cNvPicPr/>
          <p:nvPr/>
        </p:nvPicPr>
        <p:blipFill>
          <a:blip r:embed="rId3"/>
          <a:stretch/>
        </p:blipFill>
        <p:spPr>
          <a:xfrm>
            <a:off x="0" y="0"/>
            <a:ext cx="2786040" cy="257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rad861A5.jpg"/>
          <p:cNvPicPr/>
          <p:nvPr/>
        </p:nvPicPr>
        <p:blipFill>
          <a:blip r:embed="rId4"/>
          <a:stretch/>
        </p:blipFill>
        <p:spPr>
          <a:xfrm>
            <a:off x="0" y="2571840"/>
            <a:ext cx="2786040" cy="2200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radCED58.jpg"/>
          <p:cNvPicPr/>
          <p:nvPr/>
        </p:nvPicPr>
        <p:blipFill>
          <a:blip r:embed="rId5"/>
          <a:stretch/>
        </p:blipFill>
        <p:spPr>
          <a:xfrm>
            <a:off x="1928880" y="4786200"/>
            <a:ext cx="4680000" cy="20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rad597B9.jpg"/>
          <p:cNvPicPr/>
          <p:nvPr/>
        </p:nvPicPr>
        <p:blipFill>
          <a:blip r:embed="rId6"/>
          <a:stretch/>
        </p:blipFill>
        <p:spPr>
          <a:xfrm>
            <a:off x="2786040" y="1643040"/>
            <a:ext cx="2500200" cy="3164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radF7E15.jpg"/>
          <p:cNvPicPr/>
          <p:nvPr/>
        </p:nvPicPr>
        <p:blipFill>
          <a:blip r:embed="rId7"/>
          <a:stretch/>
        </p:blipFill>
        <p:spPr>
          <a:xfrm>
            <a:off x="0" y="4786200"/>
            <a:ext cx="1928880" cy="2071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нгениталне херније дијафрагм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nia Bochdale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и постеролатерални плеуроперитонеални хиату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апси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уц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она и јејунум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зин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грудни ко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мерање медијастинум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јаноз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аћањ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могућност гут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ребна је хитна хируршка корекц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јатус хернија кратког једњак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ch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rt oesophagus ) 2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дија на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0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.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знад дијафраг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чење је операциј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li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senn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D43E-1FD2-4997-A16C-A91FE79DC6C4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ечене малформације дијафрагм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1142640"/>
            <a:ext cx="93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ростернална херниј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gagn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e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ази у костостерналном углу кроз перфорације за пролаз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. mammariae interna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птоми су последица интестиналне опструк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чење је хитна хируршка интервен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епозиција и затварање процепа дијафрагме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C3FC-CC94-4098-BC1C-9BA31E439948}" type="slidenum">
              <a:rPr b="1" i="1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ауматске херније</a:t>
            </a:r>
            <a:br>
              <a:rPr sz="32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јектили, убоди, пад са висине, ударац волана у грудну к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ца тендинозни део, или постоји авулзија од реб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тно стање: пролапс и укљештење органа у грудном кошу, поремећај рада срца и плу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тна операција: репозиција органа у трбух и сутура дијафрагм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а руптура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уматска хернија се понекад открива случајно приликом гастродуоденографије или иригограф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DFFF-ADE1-4821-A20E-46C0A2FE8845}" type="slidenum">
              <a:rPr b="1" i="1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реде дијафрагме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ханизам дејства сила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олон и желудац у грудној дупљи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DBBD-F8D9-4C3E-8275-EB0BDD636952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8" descr="rad7F30A.jpg"/>
          <p:cNvPicPr/>
          <p:nvPr/>
        </p:nvPicPr>
        <p:blipFill>
          <a:blip r:embed="rId1"/>
          <a:stretch/>
        </p:blipFill>
        <p:spPr>
          <a:xfrm>
            <a:off x="2643120" y="4433760"/>
            <a:ext cx="3214800" cy="2424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radB053A.jpg"/>
          <p:cNvPicPr/>
          <p:nvPr/>
        </p:nvPicPr>
        <p:blipFill>
          <a:blip r:embed="rId2"/>
          <a:stretch/>
        </p:blipFill>
        <p:spPr>
          <a:xfrm>
            <a:off x="0" y="100008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rad73AD9.jpg"/>
          <p:cNvPicPr/>
          <p:nvPr/>
        </p:nvPicPr>
        <p:blipFill>
          <a:blip r:embed="rId3"/>
          <a:stretch/>
        </p:blipFill>
        <p:spPr>
          <a:xfrm>
            <a:off x="0" y="4429080"/>
            <a:ext cx="264312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rad00355.jpg"/>
          <p:cNvPicPr/>
          <p:nvPr/>
        </p:nvPicPr>
        <p:blipFill>
          <a:blip r:embed="rId4"/>
          <a:stretch/>
        </p:blipFill>
        <p:spPr>
          <a:xfrm>
            <a:off x="5851440" y="4429080"/>
            <a:ext cx="3292560" cy="2428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rad1830B.jpg"/>
          <p:cNvPicPr/>
          <p:nvPr/>
        </p:nvPicPr>
        <p:blipFill>
          <a:blip r:embed="rId5"/>
          <a:stretch/>
        </p:blipFill>
        <p:spPr>
          <a:xfrm>
            <a:off x="4643280" y="1000080"/>
            <a:ext cx="4500720" cy="3429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71280" y="3141360"/>
            <a:ext cx="3024360" cy="37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 гор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вреда дијафрагме и јетре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 гор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вреда ножем</a:t>
            </a:r>
            <a:r>
              <a:rPr b="1" lang="sr-Latn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 дол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</a:t>
            </a: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птура дијафрагме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но дол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sr-C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стрелни канал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35E7-55CC-437F-945A-6610F6E42CAF}" type="slidenum"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7" descr="rad42CF4.jpg"/>
          <p:cNvPicPr/>
          <p:nvPr/>
        </p:nvPicPr>
        <p:blipFill>
          <a:blip r:embed="rId1"/>
          <a:stretch/>
        </p:blipFill>
        <p:spPr>
          <a:xfrm>
            <a:off x="0" y="3143160"/>
            <a:ext cx="2771640" cy="3714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rad11949.jpg"/>
          <p:cNvPicPr/>
          <p:nvPr/>
        </p:nvPicPr>
        <p:blipFill>
          <a:blip r:embed="rId2"/>
          <a:stretch/>
        </p:blipFill>
        <p:spPr>
          <a:xfrm>
            <a:off x="0" y="0"/>
            <a:ext cx="4427640" cy="314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rad62A6A.jpg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3143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rad054C5.jpg"/>
          <p:cNvPicPr/>
          <p:nvPr/>
        </p:nvPicPr>
        <p:blipFill>
          <a:blip r:embed="rId4"/>
          <a:stretch/>
        </p:blipFill>
        <p:spPr>
          <a:xfrm>
            <a:off x="5724360" y="3143160"/>
            <a:ext cx="3419640" cy="3714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јатус херн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шће код же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лики број асимптоматских, случајн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кривени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шта френоезофагеална мембра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лаз дела желуца кроз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at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esophagei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ијафрагме на горе 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ијастину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ђена је код синдро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КОГ ЈЕДЊАК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317A-5360-48F1-BB41-68E13CACE4B4}" type="slidenum">
              <a:rPr b="1" i="1" lang="sr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7:41:16Z</dcterms:created>
  <dc:creator>Zoran Matovic</dc:creator>
  <dc:description/>
  <dc:language>en-US</dc:language>
  <cp:lastModifiedBy>Boban</cp:lastModifiedBy>
  <dcterms:modified xsi:type="dcterms:W3CDTF">2016-08-24T07:45:43Z</dcterms:modified>
  <cp:revision>160</cp:revision>
  <dc:subject/>
  <dc:title>HIRURGIJA DIJAFRAG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