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9802-4ED0-4FE2-8050-7458EA949D6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CFE8-5EA3-4907-B289-A4E0D4171C9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D2B5-9629-489E-AB1A-7CD5142CE45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341-8190-4DA6-BAA5-87408F81518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C1F9-F207-4AF7-A20E-063E8D2BEEC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8C42-83EB-4761-964B-0222F1C7F80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A177-C971-487F-A095-3E3D20DA8D3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129C-9831-4E35-9F25-3B3507571D1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333E-CEF4-44DA-BF70-246EBDB5E94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DED0-6B40-4D83-8967-B52C338FB9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9BB1-B10F-4916-89C4-ED8940DF927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5A94-832D-4641-908A-EC8A99641EF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5725-6B9C-4FAB-ACFC-DA3F4A27B3C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864B-89C6-4602-BC30-2B375B333FD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EA22-56EA-4E55-985C-5EF00529899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6FC4-B03C-48E7-AF51-90E8CB2D00A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94F4-98F0-47D9-BD66-2615D8362D6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0BFE-061D-4B00-A7B2-B7BE751AAB3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5964-6C68-4096-8B63-30F53601964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8C7E-98BA-426E-9C2B-095EF2A0F5D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A497-63BB-4B9F-B0EF-44DDF96BBD2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F464-31C4-422E-8826-DFB70C4F43C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4F32-84F1-4FD7-B38D-21749F16D96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2A83-2BE1-443F-B1A9-0466D649D95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82EC-232B-4BC6-B042-E66362CDB9D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07E1-1074-403C-B61B-CFCF4AF0826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2F86-EAB9-4117-9D30-007871CC57D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E707-0A2D-4757-A6EE-0DCB0F1F003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0B52-EBBC-4D10-B7F1-1D085565094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4F33-DE56-45EA-B0B6-C0EF461123A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75D1-A0C0-4877-8C5D-44BE1ABDECE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78FD-7474-44F5-BD95-57A28F1D44C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73B4-0835-4B4D-B5F6-05D919AE629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2843-537E-4A41-ADF6-2D32911CA6B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09FF-947A-432A-AE5C-665887C81B6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06FB-730F-4D39-9631-1C29D6E823D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3489-B319-4371-967A-C09710E851D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AF11-51DE-430B-BBAB-C5A5FD09397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AFD2-7B42-4209-8016-59D819088A7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6687-D1AC-4318-8E1E-DD00322AA6B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15A8-7114-43F1-BA7C-BF4EADDDE0D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12C-453B-4269-AECE-07AA83D4E6D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67BA-094C-474F-B0F5-43E5A9C24E9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1B3-D36F-4C9F-B01B-479AF22F1C1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A37B-0389-4CFB-8C74-4AD7084E960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0274-B508-4091-8F16-F7F6B789402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B344-37C8-422F-8D61-E5222694A16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99AA-11D3-4579-B09A-445896EB908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018-C237-4A28-BFB7-1FA2245284F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C512-5739-44A0-9DD1-C08E3121566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F73A-02A0-47F2-B1A5-EE3D906351C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0D2-A851-4B9B-9D36-80444D10C1B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BBC-7821-4B9D-A9F6-48D129DC7C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FD0-D023-451A-A831-164358FB816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711C-13DD-40B7-A824-E4B65825C1C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04D4-F90D-4401-AD1B-6B81FAFCF45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CB58-6E3F-4755-B719-EB0BEC7E701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A48E-9D49-420A-B6F2-826C3E64DD4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2A4D-C5DF-4C1E-9B45-61ED37B9F43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C1EC-E2F6-4D8E-9717-4949A0246D3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7E62-C511-4FC2-A88D-27B2053EC87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8B6F-CC19-4DC4-BC93-60BE7527708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DB8C-F260-4C1E-9F9A-B9DAB963C11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8DC5-A731-43BE-A95D-3C96288437E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1B4E-F2E7-445E-940D-1AD901CF864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2754-BEF5-47C6-A6FC-7D86FBFD6B6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7524-85F9-4AE3-95AA-3815ADC4320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F896-4AFC-492F-A35A-F22C82383D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8997-6492-4A81-A3BB-557DE63321D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4F4F-AA0F-42BD-9D01-7B44B17B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A8D0-1CDB-46C1-8F95-F2B128A4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B324-3228-4866-B608-A8FDFE83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3A06-E82E-4466-97E3-4E311A0B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05AB-8352-4A2F-B5BC-8A902861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6AC6-26C7-4F24-8DD0-85561327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9D93-F4D0-4405-A548-1B9D2B07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5517-354C-41C8-A007-82971DE3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8B2B-D66F-458F-A79C-EEB7B285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21C6-B11A-40C8-8120-31F724EA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A8AB-48B4-496F-9869-6ECDDE3A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E96D-EF15-4C72-8507-396ADD55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A5F9-77DD-46BD-9A62-817005F0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6BAF-8234-400B-BF05-3FBF622A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21E5-8FB9-4BDA-A15C-F7CDA8B3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5813-C292-4367-B526-DC08E31B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8660-41C5-483C-899B-17F85409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1686-EBB7-422A-9B3F-F5C8B81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46B7-2352-47FD-8E19-663F09A1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BE1F-F4BC-417C-AC0F-CDC4D302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C1549-C489-4E0A-8F41-FE9DDA65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2CE7-C1AC-48AF-8A51-FB4B0043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B831-2B84-4896-9E33-AAFB0FE1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4183-8A49-4DF1-BB19-CD0BA01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9FF7-1215-422E-8FC4-0E74209B0DA7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D705-5858-480C-9BC2-9F5779F6C584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33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7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7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рургија једњак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99840" y="550044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000" spc="-1" strike="noStrike">
              <a:solidFill>
                <a:srgbClr val="ffff00"/>
              </a:solidFill>
              <a:latin typeface="Verdana"/>
              <a:ea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CB6F-FDA9-4A65-8D1A-84CF15B7DD5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49323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: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зна страна тела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горе: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ађење новчић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доле: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жно страно тело код стенозе једњака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391E-844B-4964-8CAF-BF23C58514B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8" descr="radAE563.jpg"/>
          <p:cNvPicPr/>
          <p:nvPr/>
        </p:nvPicPr>
        <p:blipFill>
          <a:blip r:embed="rId1"/>
          <a:stretch/>
        </p:blipFill>
        <p:spPr>
          <a:xfrm>
            <a:off x="0" y="400068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radDB414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radFE841.jpg"/>
          <p:cNvPicPr/>
          <p:nvPr/>
        </p:nvPicPr>
        <p:blipFill>
          <a:blip r:embed="rId3"/>
          <a:stretch/>
        </p:blipFill>
        <p:spPr>
          <a:xfrm>
            <a:off x="2714760" y="4500720"/>
            <a:ext cx="2146320" cy="235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rad862B8.jpg"/>
          <p:cNvPicPr/>
          <p:nvPr/>
        </p:nvPicPr>
        <p:blipFill>
          <a:blip r:embed="rId4"/>
          <a:stretch/>
        </p:blipFill>
        <p:spPr>
          <a:xfrm>
            <a:off x="2714760" y="1857240"/>
            <a:ext cx="2144520" cy="2643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rad6A654.jpg"/>
          <p:cNvPicPr/>
          <p:nvPr/>
        </p:nvPicPr>
        <p:blipFill>
          <a:blip r:embed="rId5"/>
          <a:stretch/>
        </p:blipFill>
        <p:spPr>
          <a:xfrm>
            <a:off x="0" y="1857240"/>
            <a:ext cx="2714760" cy="2143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: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Вађење страног тела из торакалног дела једњак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горе: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тура једњака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доле: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ађење протезе из вратног дела једљак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7932-8284-462D-84FD-E71183EE4F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radF51F8.jpg"/>
          <p:cNvPicPr/>
          <p:nvPr/>
        </p:nvPicPr>
        <p:blipFill>
          <a:blip r:embed="rId1"/>
          <a:stretch/>
        </p:blipFill>
        <p:spPr>
          <a:xfrm>
            <a:off x="5364000" y="1500120"/>
            <a:ext cx="3780000" cy="2571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rad11AD4.jpg"/>
          <p:cNvPicPr/>
          <p:nvPr/>
        </p:nvPicPr>
        <p:blipFill>
          <a:blip r:embed="rId2"/>
          <a:stretch/>
        </p:blipFill>
        <p:spPr>
          <a:xfrm>
            <a:off x="0" y="1500120"/>
            <a:ext cx="5357880" cy="535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rad4E984.jpg"/>
          <p:cNvPicPr/>
          <p:nvPr/>
        </p:nvPicPr>
        <p:blipFill>
          <a:blip r:embed="rId3"/>
          <a:stretch/>
        </p:blipFill>
        <p:spPr>
          <a:xfrm>
            <a:off x="5357880" y="4071960"/>
            <a:ext cx="3786120" cy="2786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дела повред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ханичке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руђем и оружјем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шће у врату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О</a:t>
            </a:r>
            <a:r>
              <a:rPr b="1" lang="sr-C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творене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атрено оружје - устрелин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прострелине,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хладно оружј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екотин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один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одине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З</a:t>
            </a:r>
            <a:r>
              <a:rPr b="1" lang="sr-C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атворене</a:t>
            </a:r>
            <a:r>
              <a:rPr b="1" lang="sr-Latn-C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атрогене повред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ана тел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ијске корозије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ијске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иселине и базе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EEBA-4B0A-491B-B882-4C25A87B36C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ворене повреде једња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отин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бодине, прободин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стрелине и устрелине врат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атеће повреде гркљан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ушника и крвних судова , саливарна фистул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ткожни емфизем, дубока флегмона врата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дине и прострелине једњака у медијастину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дијастинитис анаеробног тип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шко стањ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неумомедијастинум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брилност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1BC3-1980-4CFD-A405-42D6451F8F9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Јатрогене перфорације једњака</a:t>
            </a:r>
            <a:br>
              <a:rPr sz="4000"/>
            </a:b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инструменталн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оскопиј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ужирањ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латације балоном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морова сонд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перације штитасте жлез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њи зид вратног дела једњака на кичменом стуб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левог главног бронха и на хијатусу дијафраг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птоми: бол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розниц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сфаг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ци: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потенз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шок, крепитације и емфизем врата и медијастину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TG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јагноза: медијастинитис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еурални излив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неумоторак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на хируршка интервенц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тура и дренаж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E86F-7175-45D8-A8EC-01DC399D5E3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онтане перфорације једњака</a:t>
            </a:r>
            <a:br>
              <a:rPr sz="3200"/>
            </a:br>
            <a:r>
              <a:rPr b="1" i="1" lang="sr-Latn-C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32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 Boerhaav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еметич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обилна исхра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кохолисана ст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а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о пуца уадњи зид доњег дела једњак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но пуца средњи део једњака код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 azyg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 и знаци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ак бол у грудном кошу за време и после повраћања. пиопнеумоторакс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широка медијастинална сенка на рентгену, крепитације у врату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емез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индром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llor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iss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: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утура и дренажа у првих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ати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сније езофагостомија и реконструкција у два акт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5CBD-32DA-4D4D-ABBE-1404096BCDC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перфорациј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ти од повреде: мала инфламациј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бридман, примарни шав, дренаж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2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ти од повреде: израж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ламација, примарни шав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урал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uch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енаж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4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ти од повреде: деривација, ексклузија једњака или езофагекто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ви постоперативни дани: гастростомиј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јуностомија за исхран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4E72-36CE-4D80-B1D4-1F2DC769F57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4372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</a:t>
            </a: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јчешћи узроци јатрогеног повређивања једња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D3EF-BDAD-4CF5-8E57-CFC1719C356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rad12EC6.jpg"/>
          <p:cNvPicPr/>
          <p:nvPr/>
        </p:nvPicPr>
        <p:blipFill>
          <a:blip r:embed="rId1"/>
          <a:stretch/>
        </p:blipFill>
        <p:spPr>
          <a:xfrm>
            <a:off x="5500800" y="0"/>
            <a:ext cx="36432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radC4B58.jpg"/>
          <p:cNvPicPr/>
          <p:nvPr/>
        </p:nvPicPr>
        <p:blipFill>
          <a:blip r:embed="rId2"/>
          <a:stretch/>
        </p:blipFill>
        <p:spPr>
          <a:xfrm>
            <a:off x="0" y="2143080"/>
            <a:ext cx="5500800" cy="471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розије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утање каустика: задесно и суицид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селине: коагулациона некроза је плића, даје тешке стен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зе: коликвациона некроз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обија у дубину, даје перфорациј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тна фаза: опекотине усана и ждрел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ентна фаза: без тегоб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нична фаза: стенозе на ангустијама, дисфаг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D201-65EE-410F-B20E-BDE75BF6FF8A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корозија једња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тна фаза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ирање водом, антидоти, антибиотици, кортикостероиди, аналгетици, интубација после друге недеље, дилатација код раних стеноза и гастрото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нична фаза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латације и бужир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инитивна опструк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ативно леч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ктомије и колопластике једњака ретростернално и трансмедијастиналн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алијатив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ss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оцедуре без езофагектомије антеторакално и ретростерн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1B82-DFC2-4B30-9705-28E1FCADA960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офагеални синдро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HAGI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 гут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нкционалн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хладну течнос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ганск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чврсту хран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SORIA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рес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claviae dex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YNOPHAGI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о гут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лукс езофагити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дидијаза код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птички улкус једња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O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URGITATI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љење у епигастријуму и ретростернално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ћање киселине и хране на ус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лукс киселине и жучи у једњ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јатус херније и дивертикули једња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B249-4A09-41C4-98C7-829668E9256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00320" y="0"/>
            <a:ext cx="51433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е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рипрема сегмента колона за колопластику</a:t>
            </a:r>
            <a:br>
              <a:rPr sz="2000"/>
            </a:b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ле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ипови васкуларизације и схеме сегмената колон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0D33-B893-46ED-B6C0-8C26F5ABBD4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8" descr="rad06438.jpg"/>
          <p:cNvPicPr/>
          <p:nvPr/>
        </p:nvPicPr>
        <p:blipFill>
          <a:blip r:embed="rId1"/>
          <a:stretch/>
        </p:blipFill>
        <p:spPr>
          <a:xfrm>
            <a:off x="0" y="4929120"/>
            <a:ext cx="1660680" cy="1928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rad043C7.jpg"/>
          <p:cNvPicPr/>
          <p:nvPr/>
        </p:nvPicPr>
        <p:blipFill>
          <a:blip r:embed="rId2"/>
          <a:stretch/>
        </p:blipFill>
        <p:spPr>
          <a:xfrm>
            <a:off x="1652760" y="4929120"/>
            <a:ext cx="7491240" cy="1928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rad19CE3.jpg"/>
          <p:cNvPicPr/>
          <p:nvPr/>
        </p:nvPicPr>
        <p:blipFill>
          <a:blip r:embed="rId3"/>
          <a:stretch/>
        </p:blipFill>
        <p:spPr>
          <a:xfrm>
            <a:off x="4000680" y="157176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rad6E106.jpg"/>
          <p:cNvPicPr/>
          <p:nvPr/>
        </p:nvPicPr>
        <p:blipFill>
          <a:blip r:embed="rId4"/>
          <a:stretch/>
        </p:blipFill>
        <p:spPr>
          <a:xfrm>
            <a:off x="0" y="2637000"/>
            <a:ext cx="4000680" cy="229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radAD788.jpg"/>
          <p:cNvPicPr/>
          <p:nvPr/>
        </p:nvPicPr>
        <p:blipFill>
          <a:blip r:embed="rId5"/>
          <a:stretch/>
        </p:blipFill>
        <p:spPr>
          <a:xfrm>
            <a:off x="0" y="0"/>
            <a:ext cx="4000680" cy="2643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: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тростернална колопластика једњака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е и лево: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ободни трансплатат и анастомоза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a. ileocolicae 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а каритидом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F7A8-42BD-427F-9610-666F35B7437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rad2AA29.jpg"/>
          <p:cNvPicPr/>
          <p:nvPr/>
        </p:nvPicPr>
        <p:blipFill>
          <a:blip r:embed="rId1"/>
          <a:stretch/>
        </p:blipFill>
        <p:spPr>
          <a:xfrm>
            <a:off x="1643040" y="3857760"/>
            <a:ext cx="2857680" cy="3000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radC9EF3.jpg"/>
          <p:cNvPicPr/>
          <p:nvPr/>
        </p:nvPicPr>
        <p:blipFill>
          <a:blip r:embed="rId2"/>
          <a:stretch/>
        </p:blipFill>
        <p:spPr>
          <a:xfrm>
            <a:off x="4500720" y="3857760"/>
            <a:ext cx="4643280" cy="3000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rad22449.jpg"/>
          <p:cNvPicPr/>
          <p:nvPr/>
        </p:nvPicPr>
        <p:blipFill>
          <a:blip r:embed="rId3"/>
          <a:stretch/>
        </p:blipFill>
        <p:spPr>
          <a:xfrm>
            <a:off x="0" y="857160"/>
            <a:ext cx="1636560" cy="6000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rad7D2B8.jpg"/>
          <p:cNvPicPr/>
          <p:nvPr/>
        </p:nvPicPr>
        <p:blipFill>
          <a:blip r:embed="rId4"/>
          <a:stretch/>
        </p:blipFill>
        <p:spPr>
          <a:xfrm>
            <a:off x="4286160" y="857160"/>
            <a:ext cx="4857840" cy="3035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rad50A24.jpg"/>
          <p:cNvPicPr/>
          <p:nvPr/>
        </p:nvPicPr>
        <p:blipFill>
          <a:blip r:embed="rId5"/>
          <a:stretch/>
        </p:blipFill>
        <p:spPr>
          <a:xfrm>
            <a:off x="1643040" y="857160"/>
            <a:ext cx="2651040" cy="3021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ева колопластика једњака </a:t>
            </a:r>
            <a:br>
              <a:rPr sz="3200"/>
            </a:b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лигатура десне и средње количне артерије </a:t>
            </a:r>
            <a:r>
              <a:rPr b="1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8268-039A-4D0A-AD92-0B34C0AB319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7" descr="radBE474.jpg"/>
          <p:cNvPicPr/>
          <p:nvPr/>
        </p:nvPicPr>
        <p:blipFill>
          <a:blip r:embed="rId1"/>
          <a:stretch/>
        </p:blipFill>
        <p:spPr>
          <a:xfrm>
            <a:off x="0" y="3214800"/>
            <a:ext cx="5500800" cy="3643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radF1383.jpg"/>
          <p:cNvPicPr/>
          <p:nvPr/>
        </p:nvPicPr>
        <p:blipFill>
          <a:blip r:embed="rId2"/>
          <a:stretch/>
        </p:blipFill>
        <p:spPr>
          <a:xfrm>
            <a:off x="5500800" y="114300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rad67A55.jpg"/>
          <p:cNvPicPr/>
          <p:nvPr/>
        </p:nvPicPr>
        <p:blipFill>
          <a:blip r:embed="rId3"/>
          <a:stretch/>
        </p:blipFill>
        <p:spPr>
          <a:xfrm>
            <a:off x="0" y="1143000"/>
            <a:ext cx="5508720" cy="208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rad1DAE8.jpg"/>
          <p:cNvPicPr/>
          <p:nvPr/>
        </p:nvPicPr>
        <p:blipFill>
          <a:blip r:embed="rId4"/>
          <a:stretch/>
        </p:blipFill>
        <p:spPr>
          <a:xfrm>
            <a:off x="5508720" y="3857760"/>
            <a:ext cx="3635280" cy="3000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арикс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анатомија: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убмукозни варикозитети доње трећине једњака и проксималног желуца. Портна хипертенз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 слика: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роза јетре, спленомегалија, искрварење хематемез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ка: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TG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кунарна расветљења на езофагографији, спленопортографија, ендоскоп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2604-0CBB-43D9-B03B-BE5E6172FA3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варикс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но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Blekmor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gstaken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ова сонд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зервативно: куративна ендоскоп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лерозација варикс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тивна хируршка интервен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ови: спленоренални, портокавалн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тралуминална трансекција једња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giura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tagava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56ED-B612-4C0C-8030-5804BB870C47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5788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арикси колона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ласирање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Blackemore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engstaken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– ове сонде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0C23-D09F-4F8F-81F1-DE88D8D4C4E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rad32D04.jpg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4365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radE45C4.jpg"/>
          <p:cNvPicPr/>
          <p:nvPr/>
        </p:nvPicPr>
        <p:blipFill>
          <a:blip r:embed="rId2"/>
          <a:stretch/>
        </p:blipFill>
        <p:spPr>
          <a:xfrm>
            <a:off x="0" y="1579680"/>
            <a:ext cx="5429160" cy="5278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rad1117A.jpg"/>
          <p:cNvPicPr/>
          <p:nvPr/>
        </p:nvPicPr>
        <p:blipFill>
          <a:blip r:embed="rId3"/>
          <a:stretch/>
        </p:blipFill>
        <p:spPr>
          <a:xfrm>
            <a:off x="2771640" y="4338720"/>
            <a:ext cx="6372360" cy="2519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рдиоспазам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chalasi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логија: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генерациј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exus myentericus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а у субмукози дисталног дела једњака са стенозом и проксималном дилатациј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4f0fc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 слика - четири стадију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кционални спазми, поремећај перисталтике са езофагогра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лни спазам са дисфагијом, дилатација једњака са езофагогра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ска стеноза са фиброзом мускулатуре дисталног дела једњака, изражена дилатација једњака, регургитација и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etor ex ore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финитивна фиброзна стеноза на кардији, једњак тортуозан у виду вадичеп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3E1E-1EC5-47F7-B3F1-9AFB431C6D79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 ахалаз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фагограм: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дроаерични ниво, левкасти прекид баријума на кардији, ирегуларна перисталтик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ахолински тест: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њекција метахолинхлорида даје снажну контракцију једњака са ретростерналним бол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фагоманометр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бероптичка езофагоскоп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ендоскоп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09B3-B068-47E9-8821-8CADD5BBFF1B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халаз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зерватив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каментозно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тропин, папаверин, глукагон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атациј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ужирањ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ва два стадијум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урш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страмукозна кардиотомија са антирефлуксним поступком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ler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r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F142-049C-483B-85AF-4200666AE984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инички изглед и операција ахалазиј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C918-E4F9-421C-A497-1CAF1D18269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radE5964.jpg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3357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rad4A8CA.jpg"/>
          <p:cNvPicPr/>
          <p:nvPr/>
        </p:nvPicPr>
        <p:blipFill>
          <a:blip r:embed="rId2"/>
          <a:stretch/>
        </p:blipFill>
        <p:spPr>
          <a:xfrm>
            <a:off x="0" y="1428840"/>
            <a:ext cx="4214880" cy="5429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rad418B9.jpg"/>
          <p:cNvPicPr/>
          <p:nvPr/>
        </p:nvPicPr>
        <p:blipFill>
          <a:blip r:embed="rId3"/>
          <a:stretch/>
        </p:blipFill>
        <p:spPr>
          <a:xfrm>
            <a:off x="4214880" y="335772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офагеални синдро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фагеални бо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етростернални бол ангинозног типа без пратећих коронарних симптом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рефлукс езофагити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поремећаја мотилитета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хијатус херн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варењ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ем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икозитети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др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allor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куси кардије и једњака код рефлук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етов једњ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437-2179-4B04-89B7-676EE34F711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вертикулум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зиони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милијарни, чешћи код ж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кциони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викални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nker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 %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лзиони пролапс мукозе, чешћи са леве стране, дисфагија, регургитација,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tor ex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плик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фо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ијастинитис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ална фистул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рација у гркљ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C45-D0BC-46FC-BA1B-52A76A669343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дивертикулум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руршка аблација дивертулум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тура једњака по слојевима 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uch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ур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кциони се не опериш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керов се оперише што пр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френични се оперише електи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7FD7-5C72-4D58-8889-BC047730365D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ефлукс езофагитис</a:t>
            </a: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RD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”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оанатомија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 у једњак пепсина и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CL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жучи, панкреасног сока, дуоденалног со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офизиологиј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тком двадесетог века (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peri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kelstein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ичка слика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еални бол, хематемеза, пратећа хијатус херниј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lespie -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ompson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D65-C8D3-42DA-9EAC-70F5900ADE8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GERD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бероптичка ендоскоп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дијум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пер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бринозно запаљ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зије и улцерац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инитивна стеноза, малигн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ерадиографија у Тренделенбургов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а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ометрија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тр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 ацидног чишћ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иоизотопски т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rnstei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 т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A0C4-05EB-4B98-8866-8E4AE1645A72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мпликације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RD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инитивн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ноза дисталног једњак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у могуће дилатације и бужира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еални улкус са хематемезом и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форациј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rret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 једњак са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кусо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енокарцином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vary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 улкус високо на једњаку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аноцелуларни  карцином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86C0-13B2-419D-847D-0CA141A724B4}" type="slidenum">
              <a:rPr b="0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дикаментозно лечење рефлукса</a:t>
            </a:r>
            <a:br>
              <a:rPr sz="2800"/>
            </a:br>
            <a:br>
              <a:rPr sz="2800"/>
            </a:b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гијенско – дијететски третман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ршављењ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соко узглавље, апстиненција од алкохола, кафе, пикантне хране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нтациди, блокатори секрец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CL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31428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евенциј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бећи дуготрајне тубаже желуц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ити опстипацију и друге узроке метеоризм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ење и превенција компликација улкусне болес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15DC-CC0F-4E1E-AF9A-B2B59DF915E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мор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</a:t>
            </a:r>
            <a:r>
              <a:rPr b="1" lang="sr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трамурални</a:t>
            </a:r>
            <a:r>
              <a:rPr b="1" lang="sr-Latn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укозни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јомиом на петељц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0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ип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ми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нги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фибр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ангиом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теоходром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2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</a:t>
            </a:r>
            <a:r>
              <a:rPr b="1" lang="sr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трамурални</a:t>
            </a:r>
            <a:r>
              <a:rPr b="1" lang="sr-Latn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екстрамукозни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пил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еном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ривени мукозом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игно алтерирају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D576-1B94-42FC-8BAC-3805D6D28FA5}" type="slidenum">
              <a:rPr b="0" lang="sr-Latn-C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мор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тенционе цисте: интрамуралне, субмукозне, мултипл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е цисте: дермоидне, параезофагеалне, ентероген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ми: широка база, слузокожа улцерира на њима, јако крвар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оми: доња трећина једњака, дају стенозе својим циркуларним растом, учесталост 0,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81EB-987F-4939-B960-83E07BAB89A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иомиом и карцином једњак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5CEC-AF53-4C93-89B7-E291631C4E7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6" descr="rad4600C.jpg"/>
          <p:cNvPicPr/>
          <p:nvPr/>
        </p:nvPicPr>
        <p:blipFill>
          <a:blip r:embed="rId1"/>
          <a:stretch/>
        </p:blipFill>
        <p:spPr>
          <a:xfrm>
            <a:off x="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rad0377C.jpg"/>
          <p:cNvPicPr/>
          <p:nvPr/>
        </p:nvPicPr>
        <p:blipFill>
          <a:blip r:embed="rId2"/>
          <a:stretch/>
        </p:blipFill>
        <p:spPr>
          <a:xfrm>
            <a:off x="2916360" y="642960"/>
            <a:ext cx="6227640" cy="6215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чење бенигних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умора једња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 треба журити са операциј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ипи се лако скидају ендоскопс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јчешће хируршке интервенције с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1.</a:t>
            </a:r>
            <a:r>
              <a:rPr b="1" lang="en-U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стралуминална енуклеац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е цист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2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ална интралуминална ексцизија са сутуром једњака пач пластик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3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екције једњака потребне код ентерогених цисти и великих крварећих тумо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4FBD-558F-4D0F-83BC-B82622F1362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 обољења једњака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ген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офагограм са баријумо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ме евакуације болу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О се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нд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туре лумена и перисталт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љеф мукозе и пролаз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т у Тренделенбургу на хијатус херниј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бероптичка ендоскоп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јагностич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псије карцином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јење јодом код рефлукс езофагитис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Баретовог улкус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атив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лерозација варик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пектомиј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метр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рење притисака у лумену и на сфинтерим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0A9FCBBF-B2A2-4D66-AAB2-282407C165E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иступи једњаку за туморектомију</a:t>
            </a:r>
            <a:br>
              <a:rPr sz="32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ева цервикотомија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ин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Garlock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–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у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Belse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1E11-C5E0-4903-A3FD-CC299045FB8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radF260D.jpg"/>
          <p:cNvPicPr/>
          <p:nvPr/>
        </p:nvPicPr>
        <p:blipFill>
          <a:blip r:embed="rId1"/>
          <a:stretch/>
        </p:blipFill>
        <p:spPr>
          <a:xfrm>
            <a:off x="0" y="1643040"/>
            <a:ext cx="3000240" cy="5214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rad07CFD.jpg"/>
          <p:cNvPicPr/>
          <p:nvPr/>
        </p:nvPicPr>
        <p:blipFill>
          <a:blip r:embed="rId2"/>
          <a:stretch/>
        </p:blipFill>
        <p:spPr>
          <a:xfrm>
            <a:off x="6643800" y="1643040"/>
            <a:ext cx="2500200" cy="5214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radBA1ED.jpg"/>
          <p:cNvPicPr/>
          <p:nvPr/>
        </p:nvPicPr>
        <p:blipFill>
          <a:blip r:embed="rId3"/>
          <a:stretch/>
        </p:blipFill>
        <p:spPr>
          <a:xfrm>
            <a:off x="3000240" y="1643040"/>
            <a:ext cx="3643560" cy="5214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лигни тумори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овне карактеристике хирургије тумора једња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аст инциденце малигнома једњака у модерном друштв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ицидне корозије, пушење, алкохол, зрачењ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мпликована дијагностик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ендоскопи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T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пси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UZ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лике и тешке хируршке интервенциј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7DED-D8A0-42D2-8204-8D26B7BE572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честалос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бији на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0.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00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новника умир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 - 5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а годишње од малигнома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шкарц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, 5 : 1,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.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7.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ценији жив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игноми једњака чи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%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свих малигном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4 %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свих малигнома дигестивног тра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у и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и највећа учестал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зо метастазирају локално и регион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алне метастаз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3 %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регионал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5 %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 мета промена у тренутку операције сам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2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1BE4-CD66-4922-9C6E-E85D2B6B4B0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тохистолошка подела</a:t>
            </a:r>
            <a:r>
              <a:rPr b="1" lang="sr-Latn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ноцелуларн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рцином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5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нокарциноми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тални једњак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Barret -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кус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ли тумори су ретк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еиомиосарк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рциносарк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напластични и малигни мелан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јчешће локализације планоцелуларног карцинома једњак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ња трећина једњака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5 – 63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ња трећина једња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5 – 43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ња трећина једња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 – 2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4E55-968F-438C-B637-12D8AECF1D8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иологија</a:t>
            </a:r>
            <a:r>
              <a:rPr b="1" lang="sr-Latn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- 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атогенез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розамин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итрити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води за пић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нзерванси ме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а са плесним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уђ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љивиц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кохол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ушење дуван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рела јела и напиц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и средине и навике стимулишу хиперплазију епитела, његову метаплазију и дисплазиј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испонирајућа стањ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 езофагитис, ,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Barret –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 једњак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0F27-A71F-4E4B-B56F-DB3CD187A1F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нколошке посеб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рно најчешћа локализација свих тумора једњака је абдоминални део једњака са кардиј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3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тману неизбежан мултидисциплинарни онколошки конзилију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ста преоперативна зрачна терапија код ограничене иноперабилност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ње трахе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стензивност хируршке терапије одређује субмукозно ширење тум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ице ресекц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8 - 1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над и испод тум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psio ex tempore ”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ње и доње линије ресекције лимфних жлезд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1675-5820-42A9-B4B9-0D4EFE8D73D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рфолошки типови малигнома једњака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нгоз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(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те у лумен једња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филтратив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ркуларно захвата једњак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цероз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отрахеалне фистул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% )</a:t>
            </a:r>
            <a:br>
              <a:rPr sz="2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игноми једњака метастазирају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80 %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мора у тренутку постављањ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гнозе имају метастаз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фоге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рвикалн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оракална и абдоминална група жлезд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матогено: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даљене метастаз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ућ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сти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озак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дбубрег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ректно: једњак нема серозу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илтрација ларингеалног живц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ронха и трахеј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ућ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ерикард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орт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ковите метастазе кроз субмукозу: сателитски тумори, чешће проксимално него дистал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D21E-6B39-45C2-B80F-29B737C0063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ључни моменти у дијагностици малигном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моезофагоскоп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оскопско пребојавање лугол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“ Carcinoma in situ ”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еда плаж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 ендоскоп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с тумора са око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G –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офагограм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улација осовине једњака говори да је тумор ухватио околне структур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ing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кроскопска и Јапанска класификација одређују време и радикалност хируршког леч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20B-BADD-4560-A508-87B071D5F01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АПАНСКИ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STAGING 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-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КРИТЕРИЈУМА</a:t>
            </a:r>
            <a:br>
              <a:rPr sz="2800"/>
            </a:br>
            <a:br>
              <a:rPr sz="2400"/>
            </a:b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етрација кроз зид</a:t>
            </a:r>
            <a:br>
              <a:rPr sz="3200"/>
            </a:b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N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хваћеност лимфних чворова</a:t>
            </a:r>
            <a:br>
              <a:rPr sz="3200"/>
            </a:b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љене метастазе</a:t>
            </a:r>
            <a:br>
              <a:rPr sz="3200"/>
            </a:b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PL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урална инфилтрација</a:t>
            </a: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кроскопска класифик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1.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епен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о диферентован тум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2.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епен 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њ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ерентован тум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3.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епен 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б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ерентован тум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4.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епен 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иферентован тум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8A16-802E-4537-BE1F-71FC7A3806D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панска класификација тумора једљака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   (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СЕD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JAPONESЕ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ОCIЕT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Y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FОR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PHАGЕАL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DISЕАSЕ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)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О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захвата адвентицију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О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нетрација до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ularis mucosae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 адвентиције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 адвентицију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-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 иколне структуре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670D-DC0C-4669-A73B-1BE2D10C290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2786040"/>
          <a:ext cx="9144000" cy="4071960"/>
        </p:xfrm>
        <a:graphic>
          <a:graphicData uri="http://schemas.openxmlformats.org/drawingml/2006/table">
            <a:tbl>
              <a:tblPr/>
              <a:tblGrid>
                <a:gridCol w="2781360"/>
                <a:gridCol w="1590480"/>
                <a:gridCol w="1590840"/>
                <a:gridCol w="1590480"/>
                <a:gridCol w="159084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  M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  M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адијум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r>
                        <a:rPr b="1" lang="sr-Latn-C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 обољења једњака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риј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рењ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селост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итиса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нтиграфиј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9 Tc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оидн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твор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ецијум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ацу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удац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његов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гистру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м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мер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rnstein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фуз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0, 1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 HCl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ук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итиса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ку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у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CD338CA5-DA88-4CBF-8B3A-02DE0577BF4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43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мори средњег торакалног и дисталног једњак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аноцелуларни и луголом необојени фунгоидни карцином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067D-9F51-4F06-B6D3-8A6C9565469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8" descr="rad88F80.jpg"/>
          <p:cNvPicPr/>
          <p:nvPr/>
        </p:nvPicPr>
        <p:blipFill>
          <a:blip r:embed="rId1"/>
          <a:stretch/>
        </p:blipFill>
        <p:spPr>
          <a:xfrm>
            <a:off x="7164360" y="3286080"/>
            <a:ext cx="1979640" cy="3571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radA389C.jpg"/>
          <p:cNvPicPr/>
          <p:nvPr/>
        </p:nvPicPr>
        <p:blipFill>
          <a:blip r:embed="rId2"/>
          <a:stretch/>
        </p:blipFill>
        <p:spPr>
          <a:xfrm>
            <a:off x="0" y="1571760"/>
            <a:ext cx="3357720" cy="5286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rad62D5E.jpg"/>
          <p:cNvPicPr/>
          <p:nvPr/>
        </p:nvPicPr>
        <p:blipFill>
          <a:blip r:embed="rId3"/>
          <a:stretch/>
        </p:blipFill>
        <p:spPr>
          <a:xfrm>
            <a:off x="3357720" y="1571760"/>
            <a:ext cx="3786120" cy="5286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rad0B220.jpg"/>
          <p:cNvPicPr/>
          <p:nvPr/>
        </p:nvPicPr>
        <p:blipFill>
          <a:blip r:embed="rId4"/>
          <a:stretch/>
        </p:blipFill>
        <p:spPr>
          <a:xfrm>
            <a:off x="7143840" y="0"/>
            <a:ext cx="2000160" cy="3286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529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е лев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В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гетантни и улцерозни тип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е лев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еоперативни 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RTG 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едњака и постоперативни 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RTG -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гастропластике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ле дес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епарати једњака са туморим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75EC-22DE-4416-B90B-EE537967084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1" descr="rad5AF9E.jpg"/>
          <p:cNvPicPr/>
          <p:nvPr/>
        </p:nvPicPr>
        <p:blipFill>
          <a:blip r:embed="rId1"/>
          <a:stretch/>
        </p:blipFill>
        <p:spPr>
          <a:xfrm>
            <a:off x="6429240" y="3286080"/>
            <a:ext cx="1428840" cy="3571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rad8E2AA.jpg"/>
          <p:cNvPicPr/>
          <p:nvPr/>
        </p:nvPicPr>
        <p:blipFill>
          <a:blip r:embed="rId2"/>
          <a:stretch/>
        </p:blipFill>
        <p:spPr>
          <a:xfrm>
            <a:off x="7858080" y="3286080"/>
            <a:ext cx="1285920" cy="3571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radEADFC.jpg"/>
          <p:cNvPicPr/>
          <p:nvPr/>
        </p:nvPicPr>
        <p:blipFill>
          <a:blip r:embed="rId3"/>
          <a:stretch/>
        </p:blipFill>
        <p:spPr>
          <a:xfrm>
            <a:off x="4071960" y="3286080"/>
            <a:ext cx="2376360" cy="3571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rad9A0CE.jpg"/>
          <p:cNvPicPr/>
          <p:nvPr/>
        </p:nvPicPr>
        <p:blipFill>
          <a:blip r:embed="rId4"/>
          <a:stretch/>
        </p:blipFill>
        <p:spPr>
          <a:xfrm>
            <a:off x="0" y="3286080"/>
            <a:ext cx="2286000" cy="3571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5" descr="radC6A91.jpg"/>
          <p:cNvPicPr/>
          <p:nvPr/>
        </p:nvPicPr>
        <p:blipFill>
          <a:blip r:embed="rId5"/>
          <a:stretch/>
        </p:blipFill>
        <p:spPr>
          <a:xfrm>
            <a:off x="2286000" y="3286080"/>
            <a:ext cx="1785960" cy="3571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6" descr="radC19F0.jpg"/>
          <p:cNvPicPr/>
          <p:nvPr/>
        </p:nvPicPr>
        <p:blipFill>
          <a:blip r:embed="rId6"/>
          <a:stretch/>
        </p:blipFill>
        <p:spPr>
          <a:xfrm>
            <a:off x="0" y="0"/>
            <a:ext cx="2001960" cy="3286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rad59ACB.jpg"/>
          <p:cNvPicPr/>
          <p:nvPr/>
        </p:nvPicPr>
        <p:blipFill>
          <a:blip r:embed="rId7"/>
          <a:stretch/>
        </p:blipFill>
        <p:spPr>
          <a:xfrm>
            <a:off x="2000160" y="0"/>
            <a:ext cx="1901880" cy="3286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инципи хируршког лечења</a:t>
            </a:r>
            <a:br>
              <a:rPr sz="24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фаденек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17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упа жлезда врата, грудног коша и абдомена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љене лимфне метастазе ваде се само када су видљив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ааорталне, ретропанкреатич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ијенал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зентеријал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271440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 групе ставова у оперативном третма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стензив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block *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екције једњака са систематском лимфаденектомијо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yama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ner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ктомије без торакотом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ringer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932C-6612-4E0E-82E1-4EEE5D365E3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и врсте хируршких интервенција</a:t>
            </a: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ративне операциј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ктомија и системска лимфаденектом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све три групе код вратног и доње две групе код торакалног дела једњака –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kiyama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ектом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en block *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 околним тикивима плеуре, перикарда, дијафрагм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v. azygos, ductus thoracicus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све три групе лимфних жлезд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ner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3AF2-4987-4AB1-85D4-C01AF1A9B7D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и врсте хируршких интервенција</a:t>
            </a: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јативне опер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ментне и субтоталне ресекције једњака са лимфаденектомијом видљивих жлез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а и лева торакотомија или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* Striping *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хијат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 </a:t>
            </a:r>
            <a:r>
              <a:rPr b="1" lang="sr-Latn-C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перабил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рингова прот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ростомија само из нуж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ер тунелизација тум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ADF4-156E-40D1-86EF-2EBB8DA4604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Гастропластике једњака</a:t>
            </a:r>
            <a:r>
              <a:rPr b="1" lang="sr-Latn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након езофагектомиј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траторакалне гастропластике и езофагогастроанастомозе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ри доње трећи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паротом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убулација желуц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есна торакотом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Ivory - Lewis 1946.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викалне гастропластике и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ри доње и средње трећине једња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цервикотомија и лапаротомија трансхијатално или десном торакотомијом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F123-F4C7-4B0F-A2B6-BF0E661D7CC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нтестиналне пластике једњака</a:t>
            </a:r>
            <a:r>
              <a:rPr b="1" lang="sr-Latn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након езофагектомиј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42640"/>
            <a:ext cx="914400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опластике једња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тростернално или трансхијат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јунопластике једња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томија дозвољава извођење 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43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6 %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oux ( 1907. ), Herzen - Lex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1911 ), Judin ( 1948. ), Judin – Papo ( 1960.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70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хисценције анастом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врату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– 2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крозе трансплантата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– 8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 – 1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C398-D1A1-4564-B6ED-9A56B3100C5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Д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сталне езофагектом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туп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акотомија са лапаротомијом без френотом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алијативн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онемогућава лимфаденектоми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акофренолапаротомија је радикалн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астроанастомоз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L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PLER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ехни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днослаојна и двослојн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Е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фагојејуноанастомоз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L 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товаскуларни трансплантат цревног сег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PLER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, ручна, двослојна или једнослојна тех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B49E-8080-4826-9BB5-9133105345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перативни поступци код малигнома </a:t>
            </a:r>
            <a:br>
              <a:rPr sz="4000"/>
            </a:b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доње трећине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ропластика једња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убулација и транспозиција желуца у грудни кош трансхијат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цијална езофагектомија кроз десну торакотоми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траторакалн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огастроанастомоз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Ivor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wis )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ручна једноскојна и двослојн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STAPLER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нтирефлуксн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икални захва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аденектом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раоперативн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ouch frozen section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F37F-8B09-43C2-AE84-7D98A2B4330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еративни поступци код малигнома</a:t>
            </a:r>
            <a:br>
              <a:rPr sz="3600"/>
            </a:br>
            <a:r>
              <a:rPr b="1" lang="sr-CS" sz="36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средњег и горњег дела торакалног једњака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јативни поступак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ping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зофагектомија без торакотом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смедијастинална гастропластика са цервикалном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L 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ослој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днослој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икални поступак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тотална езофагек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истемтска лимфаденек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Akiyama ) 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на торако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апаро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цервикотом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желудац ретростернал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цервикалн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G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4419-26EB-4BC1-B9FB-C8C9CC02707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о:</a:t>
            </a:r>
            <a:r>
              <a:rPr b="1" i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H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анометрија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но: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офагограми (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hort oesophagus, рефлукс езофагитис код хиjатус херније, стеноза једњака код рефлукса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338-4190-47D8-8C63-FD0D8F7A6C6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rad674F5.jpg"/>
          <p:cNvPicPr/>
          <p:nvPr/>
        </p:nvPicPr>
        <p:blipFill>
          <a:blip r:embed="rId1"/>
          <a:stretch/>
        </p:blipFill>
        <p:spPr>
          <a:xfrm>
            <a:off x="0" y="1357200"/>
            <a:ext cx="4572000" cy="550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rad45D86.jpg"/>
          <p:cNvPicPr/>
          <p:nvPr/>
        </p:nvPicPr>
        <p:blipFill>
          <a:blip r:embed="rId2"/>
          <a:stretch/>
        </p:blipFill>
        <p:spPr>
          <a:xfrm>
            <a:off x="4572000" y="4214880"/>
            <a:ext cx="4572000" cy="2643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rad2E690.jpg"/>
          <p:cNvPicPr/>
          <p:nvPr/>
        </p:nvPicPr>
        <p:blipFill>
          <a:blip r:embed="rId3"/>
          <a:stretch/>
        </p:blipFill>
        <p:spPr>
          <a:xfrm>
            <a:off x="6948360" y="1341360"/>
            <a:ext cx="2195640" cy="2873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rad09E90.jpg"/>
          <p:cNvPicPr/>
          <p:nvPr/>
        </p:nvPicPr>
        <p:blipFill>
          <a:blip r:embed="rId4"/>
          <a:stretch/>
        </p:blipFill>
        <p:spPr>
          <a:xfrm>
            <a:off x="4572000" y="1341360"/>
            <a:ext cx="2376360" cy="2873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еративни поступци код малигнома горњег</a:t>
            </a: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торакалног и цервикалног дела једња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ња трећина торакалног дела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ална езофагектомија трансхијат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0f62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ропластика или колопласти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медијастинал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викални део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pping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бодни цревни трансплата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он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јејунум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скуларна анастомоза са великим судовима вр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pping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трансхијатална позиција гастропластике или колопласти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01E4-C62C-4657-A000-05CB282E5F4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Stripping 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једњака и ретростернална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гастропластика по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Akiyami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E02-9AFA-4FD2-A205-F5B753413DE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6" descr="rad29960.jpg"/>
          <p:cNvPicPr/>
          <p:nvPr/>
        </p:nvPicPr>
        <p:blipFill>
          <a:blip r:embed="rId1"/>
          <a:stretch/>
        </p:blipFill>
        <p:spPr>
          <a:xfrm>
            <a:off x="0" y="1071720"/>
            <a:ext cx="6227640" cy="5786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rad7C900.jpg"/>
          <p:cNvPicPr/>
          <p:nvPr/>
        </p:nvPicPr>
        <p:blipFill>
          <a:blip r:embed="rId2"/>
          <a:stretch/>
        </p:blipFill>
        <p:spPr>
          <a:xfrm>
            <a:off x="6215040" y="1071720"/>
            <a:ext cx="2928960" cy="5786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512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ва цервикотомија</a:t>
            </a:r>
            <a:br>
              <a:rPr sz="2000"/>
            </a:b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еративни приступ вратном делу једњак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7988-919E-46B3-844E-D6FAD2F13F8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8" descr="rad357FF.jpg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3857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radC319D.jpg"/>
          <p:cNvPicPr/>
          <p:nvPr/>
        </p:nvPicPr>
        <p:blipFill>
          <a:blip r:embed="rId2"/>
          <a:stretch/>
        </p:blipFill>
        <p:spPr>
          <a:xfrm>
            <a:off x="0" y="1071720"/>
            <a:ext cx="3857760" cy="27860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rad9B7CA.jpg"/>
          <p:cNvPicPr/>
          <p:nvPr/>
        </p:nvPicPr>
        <p:blipFill>
          <a:blip r:embed="rId3"/>
          <a:stretch/>
        </p:blipFill>
        <p:spPr>
          <a:xfrm>
            <a:off x="0" y="3857760"/>
            <a:ext cx="3571920" cy="30002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rad5554D.jpg"/>
          <p:cNvPicPr/>
          <p:nvPr/>
        </p:nvPicPr>
        <p:blipFill>
          <a:blip r:embed="rId4"/>
          <a:stretch/>
        </p:blipFill>
        <p:spPr>
          <a:xfrm>
            <a:off x="3571920" y="3857760"/>
            <a:ext cx="5572080" cy="3000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71840" y="-360"/>
            <a:ext cx="657216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Реконструкције након радикалне операције   абдоминалног дела једњака и кардије </a:t>
            </a:r>
            <a:br>
              <a:rPr sz="2000"/>
            </a:b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о горе :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Longmire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Beal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о доле: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Nissen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–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Stulhofer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) </a:t>
            </a:r>
            <a:br>
              <a:rPr sz="2800"/>
            </a:b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но доле: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Siewert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4B49-F206-4794-9347-AC85F90157D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8" descr="rad5A37E.jpg"/>
          <p:cNvPicPr/>
          <p:nvPr/>
        </p:nvPicPr>
        <p:blipFill>
          <a:blip r:embed="rId1"/>
          <a:stretch/>
        </p:blipFill>
        <p:spPr>
          <a:xfrm>
            <a:off x="0" y="3571920"/>
            <a:ext cx="3214800" cy="3286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rad852DC.jpg"/>
          <p:cNvPicPr/>
          <p:nvPr/>
        </p:nvPicPr>
        <p:blipFill>
          <a:blip r:embed="rId2"/>
          <a:stretch/>
        </p:blipFill>
        <p:spPr>
          <a:xfrm>
            <a:off x="0" y="-100080"/>
            <a:ext cx="2554200" cy="3672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rad21C71.jpg"/>
          <p:cNvPicPr/>
          <p:nvPr/>
        </p:nvPicPr>
        <p:blipFill>
          <a:blip r:embed="rId3"/>
          <a:stretch/>
        </p:blipFill>
        <p:spPr>
          <a:xfrm>
            <a:off x="5076720" y="3573360"/>
            <a:ext cx="4067280" cy="3284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rad97812.jpg"/>
          <p:cNvPicPr/>
          <p:nvPr/>
        </p:nvPicPr>
        <p:blipFill>
          <a:blip r:embed="rId4"/>
          <a:stretch/>
        </p:blipFill>
        <p:spPr>
          <a:xfrm>
            <a:off x="3214800" y="3571920"/>
            <a:ext cx="1857240" cy="3286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А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утографт танког црева и колона везан артеријом за каротиде или мамарију</a:t>
            </a:r>
            <a:r>
              <a:rPr b="1" lang="en-U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(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Longmire</a:t>
            </a:r>
            <a:r>
              <a:rPr b="1" lang="sr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8476-7383-4D49-B1CE-217DD6DFA60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7" descr="radD530D.jpg"/>
          <p:cNvPicPr/>
          <p:nvPr/>
        </p:nvPicPr>
        <p:blipFill>
          <a:blip r:embed="rId1"/>
          <a:stretch/>
        </p:blipFill>
        <p:spPr>
          <a:xfrm>
            <a:off x="0" y="3857760"/>
            <a:ext cx="5143680" cy="3000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radC299D.jpg"/>
          <p:cNvPicPr/>
          <p:nvPr/>
        </p:nvPicPr>
        <p:blipFill>
          <a:blip r:embed="rId2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radBCBC3.jpg"/>
          <p:cNvPicPr/>
          <p:nvPr/>
        </p:nvPicPr>
        <p:blipFill>
          <a:blip r:embed="rId3"/>
          <a:stretch/>
        </p:blipFill>
        <p:spPr>
          <a:xfrm>
            <a:off x="0" y="785880"/>
            <a:ext cx="9144000" cy="3098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латација иноперабилних тумора једњака</a:t>
            </a:r>
            <a:br>
              <a:rPr sz="3200"/>
            </a:br>
            <a:r>
              <a:rPr b="1" lang="sr-CS" sz="32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ласирање ендопротез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C43B-2012-4207-B010-408B322ABB9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9" descr="rad3824D.jpg"/>
          <p:cNvPicPr/>
          <p:nvPr/>
        </p:nvPicPr>
        <p:blipFill>
          <a:blip r:embed="rId1"/>
          <a:stretch/>
        </p:blipFill>
        <p:spPr>
          <a:xfrm>
            <a:off x="0" y="36432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radD6820.jpg"/>
          <p:cNvPicPr/>
          <p:nvPr/>
        </p:nvPicPr>
        <p:blipFill>
          <a:blip r:embed="rId2"/>
          <a:stretch/>
        </p:blipFill>
        <p:spPr>
          <a:xfrm>
            <a:off x="2786040" y="1143000"/>
            <a:ext cx="2952720" cy="5715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radD2A83.jpg"/>
          <p:cNvPicPr/>
          <p:nvPr/>
        </p:nvPicPr>
        <p:blipFill>
          <a:blip r:embed="rId3"/>
          <a:stretch/>
        </p:blipFill>
        <p:spPr>
          <a:xfrm>
            <a:off x="5715000" y="2928960"/>
            <a:ext cx="3429000" cy="3929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rad6FD9E.jpg"/>
          <p:cNvPicPr/>
          <p:nvPr/>
        </p:nvPicPr>
        <p:blipFill>
          <a:blip r:embed="rId4"/>
          <a:stretch/>
        </p:blipFill>
        <p:spPr>
          <a:xfrm>
            <a:off x="5724360" y="1143000"/>
            <a:ext cx="3419640" cy="1785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rad5BE81.jpg"/>
          <p:cNvPicPr/>
          <p:nvPr/>
        </p:nvPicPr>
        <p:blipFill>
          <a:blip r:embed="rId5"/>
          <a:stretch/>
        </p:blipFill>
        <p:spPr>
          <a:xfrm>
            <a:off x="0" y="1143000"/>
            <a:ext cx="2786040" cy="2500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нтубације једњака код иноперабилних тумора </a:t>
            </a:r>
            <a:br>
              <a:rPr sz="2800"/>
            </a:b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и на анастомози са желуцем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98E-DD92-4DD9-BD8E-CAD409E9EFB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6" descr="rad0BD21.jpg"/>
          <p:cNvPicPr/>
          <p:nvPr/>
        </p:nvPicPr>
        <p:blipFill>
          <a:blip r:embed="rId1"/>
          <a:stretch/>
        </p:blipFill>
        <p:spPr>
          <a:xfrm>
            <a:off x="0" y="1000080"/>
            <a:ext cx="4286160" cy="5857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rad69882.jpg"/>
          <p:cNvPicPr/>
          <p:nvPr/>
        </p:nvPicPr>
        <p:blipFill>
          <a:blip r:embed="rId2"/>
          <a:stretch/>
        </p:blipFill>
        <p:spPr>
          <a:xfrm>
            <a:off x="4284720" y="1000080"/>
            <a:ext cx="4859280" cy="5857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7204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дол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М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дели протеза и стентова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и десм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ласирани стентови на малигне стенозе једњак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3626-DA0B-42A5-AA4F-D56140B8E0B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7" descr="radE7FD2.jpg"/>
          <p:cNvPicPr/>
          <p:nvPr/>
        </p:nvPicPr>
        <p:blipFill>
          <a:blip r:embed="rId1"/>
          <a:stretch/>
        </p:blipFill>
        <p:spPr>
          <a:xfrm>
            <a:off x="5786280" y="3071880"/>
            <a:ext cx="3357720" cy="3786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rad24770.jpg"/>
          <p:cNvPicPr/>
          <p:nvPr/>
        </p:nvPicPr>
        <p:blipFill>
          <a:blip r:embed="rId2"/>
          <a:stretch/>
        </p:blipFill>
        <p:spPr>
          <a:xfrm>
            <a:off x="0" y="3071880"/>
            <a:ext cx="5796000" cy="3786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rad8583F.jpg"/>
          <p:cNvPicPr/>
          <p:nvPr/>
        </p:nvPicPr>
        <p:blipFill>
          <a:blip r:embed="rId3"/>
          <a:stretch/>
        </p:blipFill>
        <p:spPr>
          <a:xfrm>
            <a:off x="4929120" y="0"/>
            <a:ext cx="4214880" cy="3068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П</a:t>
            </a: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остоперативне компликације</a:t>
            </a:r>
            <a:br>
              <a:rPr sz="4000"/>
            </a:br>
            <a:r>
              <a:rPr b="1" lang="sr-CS" sz="4000" spc="-1" strike="noStrike">
                <a:solidFill>
                  <a:srgbClr val="90f62a"/>
                </a:solidFill>
                <a:latin typeface="Times New Roman"/>
                <a:ea typeface="Times New Roman"/>
              </a:rPr>
              <a:t>езофагектомија и езофагопласт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 компликациј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хисценције шавова на анастомозама или трансплатати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не компликациј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нозе анастомоз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апија дехисценциј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интервенција и дренажа анастом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апија стеноз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ужирање, балон дилатација, ресекција анастом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5454-46FE-4BAA-9AD1-19B476863E6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76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нометрија и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H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метрија једњак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E0C7-275C-4C07-8946-0E4E07919B9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radFABF4.jpg"/>
          <p:cNvPicPr/>
          <p:nvPr/>
        </p:nvPicPr>
        <p:blipFill>
          <a:blip r:embed="rId1"/>
          <a:stretch/>
        </p:blipFill>
        <p:spPr>
          <a:xfrm>
            <a:off x="0" y="857160"/>
            <a:ext cx="5143680" cy="6000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rad24891.jpg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ођене стенозе и фистуле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371-0147-45EF-A645-4774F8E88F0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rad063E0.jpg"/>
          <p:cNvPicPr/>
          <p:nvPr/>
        </p:nvPicPr>
        <p:blipFill>
          <a:blip r:embed="rId1"/>
          <a:stretch/>
        </p:blipFill>
        <p:spPr>
          <a:xfrm>
            <a:off x="0" y="928800"/>
            <a:ext cx="4357800" cy="5929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rad4F333.jpg"/>
          <p:cNvPicPr/>
          <p:nvPr/>
        </p:nvPicPr>
        <p:blipFill>
          <a:blip r:embed="rId2"/>
          <a:stretch/>
        </p:blipFill>
        <p:spPr>
          <a:xfrm>
            <a:off x="4357800" y="928800"/>
            <a:ext cx="4786200" cy="5929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рана тела једњ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ц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лађа од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д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е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асл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таре особ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и болесници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сфаг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пираторне сметњ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јагностик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нтген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оскопиј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пликациј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запаљењ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форац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ијастинитис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хеоезофагеална фистул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чењ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ендоскопска екстракц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еративно одстрањење и сутура једњака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FE8C-A13E-4EB4-B43D-1AFE4D0F658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2:26:46Z</dcterms:created>
  <dc:creator>Zoran Matovic</dc:creator>
  <dc:description/>
  <dc:language>en-US</dc:language>
  <cp:lastModifiedBy>Boban</cp:lastModifiedBy>
  <dcterms:modified xsi:type="dcterms:W3CDTF">2016-07-13T10:38:39Z</dcterms:modified>
  <cp:revision>210</cp:revision>
  <dc:subject/>
  <dc:title>HIRURGIJA JEDNJA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